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783-9E09-4EF8-9111-BEE54626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1F8-D1B7-4EDF-A04F-D56E695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AA7-B919-433A-ABF1-7AC5102B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4DB-1BFF-4281-9FC9-99132660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FEF-3F34-4711-9A54-34BBA5E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50E-55C8-4F64-9677-0D275F7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552-75E7-4A36-A8B6-B1E8ED4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CE0-9D02-4FC0-8421-081372F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CF3-E2AE-4528-A942-EF7BF024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9E6-15B7-4779-9049-29B420A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7F8-1BCA-4239-9CDF-A30B483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D2F-15D3-451A-A43A-36D3980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706-92BE-455A-8610-7A452F41D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sers.ez2.net/ohp/Mark%20Sports/Skate%20Material/Coastsiders/Warren%20Ramp%20Mark%20Center%20March%201978_2l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1b2c3.com/drugs/pictures/hashnep1a.jpg&amp;imgrefurl=http://www.a1b2c3.com/drugs/pictures/hashnep1.htm&amp;h=228&amp;w=177&amp;sz=8&amp;tbnid=785EBRLCGGAJ:&amp;tbnh=101&amp;tbnw=79&amp;start=16&amp;prev=/images%3Fq%3Drubbing%2Bhands%26hl%3Den%26lr%3D%26sa%3D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0"/>
            <a:ext cx="70866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48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n an object is in motion it tends to stay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71600" y="182880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 moti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9704E-006 L 1.04167 -0.56588 E"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n an object is still it tends to remain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2743200"/>
            <a:ext cx="495288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i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57984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is is called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110040"/>
            <a:ext cx="71625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ERT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use of a force to move an object is ____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3276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ff"/>
                </a:solidFill>
                <a:latin typeface="Arial"/>
              </a:rPr>
              <a:t>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57913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42765E-006 L 0.375 -5.42765E-006 E">
                                      <p:cBhvr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4300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ability to do work is called _________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2767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cc33"/>
                </a:solidFill>
                <a:latin typeface="Arial"/>
              </a:rPr>
              <a:t>energ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4940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energy of motion is __________ energ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13372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66ff"/>
                </a:solidFill>
                <a:latin typeface="Arial"/>
              </a:rPr>
              <a:t>kineti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19112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33880" y="3554280"/>
            <a:ext cx="3576600" cy="277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22860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energy of position is _____________ energ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209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d60093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cc33"/>
                </a:solidFill>
                <a:latin typeface="Arial"/>
              </a:rPr>
              <a:t>Name the </a:t>
            </a:r>
            <a:r>
              <a:rPr b="1" i="1" lang="en-US" sz="8000" spc="-1" strike="noStrike">
                <a:solidFill>
                  <a:srgbClr val="d60093"/>
                </a:solidFill>
                <a:latin typeface="Arial"/>
              </a:rPr>
              <a:t>frame of reference</a:t>
            </a:r>
            <a:r>
              <a:rPr b="1" i="1" lang="en-US" sz="8000" spc="-1" strike="noStrike">
                <a:solidFill>
                  <a:srgbClr val="33cc33"/>
                </a:solidFill>
                <a:latin typeface="Arial"/>
              </a:rPr>
              <a:t> in each of the following statement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1880" y="2286000"/>
            <a:ext cx="3662640" cy="36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5335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og is beside the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819520"/>
            <a:ext cx="3505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038480" cy="2973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6858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uck is swimming in the pon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09680" y="4419720"/>
            <a:ext cx="3581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08584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can tell that an object has moved when its __________ has chang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595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po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5905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301 C 0.2342 -0.05741 0.4684 -0.11783 0.55868 1.48148E-006 C 0.64896 0.11782 0.54497 0.59143 0.54132 0.71018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447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Name the type of </a:t>
            </a:r>
            <a:r>
              <a:rPr b="1" i="1" lang="en-US" sz="7200" spc="-1" strike="noStrike">
                <a:solidFill>
                  <a:srgbClr val="3366ff"/>
                </a:solidFill>
                <a:latin typeface="Arial"/>
              </a:rPr>
              <a:t>energy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in each of the following statement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14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all is rolling down the hi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81080" y="3105000"/>
            <a:ext cx="579132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INETIC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roller coaster is sitting at the top of the tra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3200400"/>
            <a:ext cx="6477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T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9144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pencil fell off the edge of the des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81080" y="3105000"/>
            <a:ext cx="579132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INETIC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kier is at the top of the ski jum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3200400"/>
            <a:ext cx="6477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T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2475000"/>
            <a:ext cx="5996160" cy="425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66880" y="35053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66"/>
                </a:solidFill>
                <a:latin typeface="Arial"/>
              </a:rPr>
              <a:t>frame of r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bject used for comparing another object to describe its position is called 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3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istance an object moves in a certain amount of time is called 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6002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Arial"/>
              </a:rPr>
              <a:t>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676520" cy="152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4382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4998E-006 L -0.75834 -0.00046 E"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52880" y="1295280"/>
            <a:ext cx="3886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______ graph can be used to show the change in an object’s speed over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295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60093"/>
                </a:solidFill>
                <a:latin typeface="Arial"/>
              </a:rPr>
              <a:t>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109960"/>
            <a:ext cx="403848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makes objects change speed or direc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90920" y="1905120"/>
            <a:ext cx="6095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5480" y="4853160"/>
            <a:ext cx="57913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unit is used to measure forc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2438280"/>
            <a:ext cx="3614760" cy="27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T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9344" t="28540" r="41630" b="12924"/>
          <a:stretch/>
        </p:blipFill>
        <p:spPr>
          <a:xfrm>
            <a:off x="5562720" y="121932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5889200">
            <a:off x="4267080" y="3803040"/>
            <a:ext cx="1904760" cy="1905120"/>
          </a:xfrm>
          <a:prstGeom prst="wedgeEllipseCallout">
            <a:avLst>
              <a:gd name="adj1" fmla="val -41550"/>
              <a:gd name="adj2" fmla="val 65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UM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733920"/>
            <a:ext cx="190512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at kin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094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force between surfaces that slows or stops objec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3110040"/>
            <a:ext cx="624852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I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9144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riction creates ______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0574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6600"/>
                </a:solidFill>
                <a:latin typeface="Arial"/>
              </a:rPr>
              <a:t>he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5007" r="0" b="0"/>
          <a:stretch/>
        </p:blipFill>
        <p:spPr>
          <a:xfrm>
            <a:off x="4195800" y="2971800"/>
            <a:ext cx="357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7:12:55Z</dcterms:created>
  <dc:creator>Salem City Schools</dc:creator>
  <dc:description/>
  <dc:language>en-US</dc:language>
  <cp:lastModifiedBy>Technology Services</cp:lastModifiedBy>
  <dcterms:modified xsi:type="dcterms:W3CDTF">2011-06-13T19:44:14Z</dcterms:modified>
  <cp:revision>6</cp:revision>
  <dc:subject/>
  <dc:title>Slide 1</dc:title>
</cp:coreProperties>
</file>